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C65-49C6-4979-8CC0-5725AFF2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636-27AA-4822-9A1E-93B98551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B05-4A3B-4F73-AF45-0663FCA8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AB6-DF13-4C99-8D93-2895E8EE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C9A-E25A-4B48-ADC1-1440EB69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4FD-CBBD-4899-8DA7-407AEE7F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D80-A15B-40F2-96FA-36F0EC6A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573-F987-450D-9616-5EBCF019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5A59-FC70-4235-A9F9-E9231705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E2A-F0FB-4A67-9662-F8DE17A0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5C5-BFC6-4F15-A637-6044648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A8E-F71C-4EDC-9F46-8D0298DF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AC69-1DC7-4B6F-AFA3-DDFEDE016D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zeng</cp:lastModifiedBy>
  <dcterms:modified xsi:type="dcterms:W3CDTF">2004-06-13T11:24:36Z</dcterms:modified>
  <cp:revision>15</cp:revision>
  <dc:subject/>
  <dc:title>Welcome to my class!</dc:title>
</cp:coreProperties>
</file>